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80B4-FEF6-497D-A340-5A01011CEE60}" type="datetime">
              <a:rPr b="0" lang="zh-CN" sz="1200" spc="-1" strike="noStrike">
                <a:solidFill>
                  <a:srgbClr val="000000"/>
                </a:solidFill>
                <a:latin typeface="Arial"/>
                <a:ea typeface="宋体"/>
              </a:rPr>
              <a:t>26/7/31</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2D7F-9DDA-48C1-8678-1BC82E5A412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B0E7-7411-455E-83D8-C65FF53A63E2}"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6ADE-58FA-48B4-A887-916C75A3B0E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A0A0-27FD-4997-8F6B-D8DD08091CAD}"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378D-0FC2-4B2A-9F9F-2945317EB06C}"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30FC-E371-44D6-B622-C974A415B57E}"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448B-48C9-4231-A061-91A9B920F2A8}"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3BB6-E39A-4D92-B8D3-CCDE82C63EF1}"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B302-C61B-48C6-B795-B6D7939E0238}"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72B4-313D-4FD7-961A-909CEB19EBD4}"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2418-52ED-4963-B434-DFF33175901C}"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1C2E9-5A96-44D7-BC04-31A6C8ACD8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B2A11C-755D-4BE9-A556-316500AD8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5354F1-B21F-405F-A095-C5D89A2868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3EF694D-45B5-43FE-AA38-03AD46A9D6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0D27C7-E4BE-4DA5-830E-7854FA710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C71C6D-3EED-4AFC-A762-1C5E205356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1EB3D7-C118-4D3D-8AF0-1713C42FB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94427-6B79-4E92-8E29-17CF19E87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3E18F9-6E00-4D1A-AE7F-953A71669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130E6-7BCE-4D9E-B8BD-7B5C9A091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FF2652-4B42-46F8-AF1B-7F27FDC06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8C8F7A-2409-4504-8EA5-711EBFC6D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317760-9303-4DC9-99B2-02C8CFC9F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062F0-C12A-4A74-9D00-8B5C4AF25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94C223-33E0-4361-B340-F447AC8147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268C21-021F-42EB-A8D7-FF6E3E4EC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20EC7A-13C3-4020-B76B-260FDBD800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5D9C04-1D43-4FFE-90C2-971FDBF9CB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496C27-346A-40A9-B8CC-5BFA5B929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998021-1906-458C-8209-4665301170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AD3F2A-8047-4BE6-A2EE-77EB7C92B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5163AD-9576-4F45-A1D5-9C2A8FF34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0BFEF8-521E-471C-86F0-43543562A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F5A84B-925F-4E25-B1AA-7B933964A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A31B-5C0B-4472-8CE4-F7161436152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1E42-9F46-4B64-880F-420D68475FB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